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71-0CF8-4466-9DB1-0AB0966A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A0F-CE58-4761-AB97-5884FFA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358-9932-4F98-948F-B357D9E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EF3-2A9E-400B-91EA-A66FE795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899C-4D25-458D-97E4-1018CDB7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540-0A27-4293-ABC3-1AA4D1C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C358-1E48-47D0-A8D9-0C2763B2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AA9E-CEDF-43C0-9798-89DF3EEE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0F9-4627-446E-B035-9579C0A0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6F55-CE3B-4BBB-BC03-E189664C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95D-D09B-4589-87D3-AA0591C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78F-E12A-490E-8F70-EFEC26D7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F870-9814-4B52-A376-6CF61F5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40F-8374-42CD-9EF9-4FFD7E6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D1D-D2B0-4FBA-9588-E586FF2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4C1-5916-467B-9482-51D1B9D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339-5168-4788-8141-B0345DE8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21E2-C44C-4E40-B5FA-81A265F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E661-2797-4B93-8188-46D1758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6762-67C3-4296-93CC-7D51134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D17B-D59E-415E-A770-5ACFF86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13D6-D900-4B5E-BAFB-F729F983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BE8-C773-41D8-BA31-C8289544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B863-6B7D-402A-81B3-320E7B6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F1A5-F432-47EA-88FB-A7B2653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D344-22A6-4E79-9693-E7BDCED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D0D2-5702-4AE6-96C0-AB1224A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F767-FB66-45F5-B537-A36BD41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5FF4-816C-4F07-B691-5938FDAF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CB3F-568A-4C41-B8E6-5F10EF73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FCF-2AF6-482A-9D35-42891C4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17F-8DC2-4048-B1E7-2DEBC44F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39E-53F0-408F-9CFA-FA18B9F1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C4E-0B60-45A8-844E-44507D1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EA7-4F05-43BE-9B9B-237BBB5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16C-39A6-4BD6-BDA8-5C05C8E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202-1D1B-43EB-92DF-4458B2E6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AB5-AAE2-48F0-A219-28342C1328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F62-567B-49FC-BD3A-18474194C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the-way-i-are-lyrics-timbaland.html" TargetMode="Externa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metrolyrics.com/stronger-lyrics-kanye-west.html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metrolyrics.com/crank-dat-soulja-boy-lyrics-soulja-boy.html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metrolyrics.com/timbaland-lyrics.html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SAY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opy on Left (Cornell style) and SKIP LIN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Sentence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Correcting Fra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Run-On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Fused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Comma Spl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Correcting Run-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Only copy what is written 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AWKWARDNE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Some Sentences are Awkward because they are run-ons or sentence fragment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88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Jester"/>
              </a:rPr>
              <a:t>Sentences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Jester"/>
              </a:rPr>
              <a:t>(copy on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is a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group of words that expresses a complete thought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br>
              <a:rPr sz="32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A sentence </a:t>
            </a:r>
            <a:r>
              <a:rPr b="0" lang="en-US" sz="3200" spc="-1" strike="noStrike">
                <a:solidFill>
                  <a:srgbClr val="ff0066"/>
                </a:solidFill>
                <a:latin typeface="Jester"/>
              </a:rPr>
              <a:t>contains a subject and a verb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EXAMPLE:</a:t>
            </a:r>
            <a:r>
              <a:rPr b="0" lang="en-US" sz="3200" spc="-1" strike="noStrike">
                <a:solidFill>
                  <a:srgbClr val="cc66ff"/>
                </a:solidFill>
                <a:latin typeface="Jester"/>
              </a:rPr>
              <a:t> Dan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32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2. 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is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only a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piece of a sentence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does not express a complete though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is 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missing the subject or verb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.       </a:t>
            </a:r>
            <a:r>
              <a:rPr b="1" lang="en-US" sz="2000" spc="-1" strike="noStrike">
                <a:solidFill>
                  <a:srgbClr val="ffffff"/>
                </a:solidFill>
                <a:latin typeface="Jester"/>
              </a:rPr>
              <a:t>COPY ON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4876920" y="4724280"/>
            <a:ext cx="3906360" cy="2339640"/>
            <a:chOff x="4876920" y="4724280"/>
            <a:chExt cx="3906360" cy="2339640"/>
          </a:xfrm>
        </p:grpSpPr>
        <p:sp>
          <p:nvSpPr>
            <p:cNvPr id="232" name="Freeform 10"/>
            <p:cNvSpPr/>
            <p:nvPr/>
          </p:nvSpPr>
          <p:spPr>
            <a:xfrm>
              <a:off x="4910760" y="4771800"/>
              <a:ext cx="1946880" cy="1788480"/>
            </a:xfrm>
            <a:custGeom>
              <a:avLst/>
              <a:gdLst>
                <a:gd name="textAreaLeft" fmla="*/ 0 w 1946880"/>
                <a:gd name="textAreaRight" fmla="*/ 1947240 w 1946880"/>
                <a:gd name="textAreaTop" fmla="*/ 0 h 1788480"/>
                <a:gd name="textAreaBottom" fmla="*/ 1788840 h 1788480"/>
              </a:gdLst>
              <a:ahLst/>
              <a:rect l="textAreaLeft" t="textAreaTop" r="textAreaRight" b="textAreaBottom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6931800" y="5051520"/>
              <a:ext cx="1818720" cy="1977120"/>
            </a:xfrm>
            <a:custGeom>
              <a:avLst/>
              <a:gdLst>
                <a:gd name="textAreaLeft" fmla="*/ 0 w 1818720"/>
                <a:gd name="textAreaRight" fmla="*/ 1819080 w 1818720"/>
                <a:gd name="textAreaTop" fmla="*/ 0 h 1977120"/>
                <a:gd name="textAreaBottom" fmla="*/ 1977480 h 1977120"/>
              </a:gdLst>
              <a:ahLst/>
              <a:rect l="textAreaLeft" t="textAreaTop" r="textAreaRight" b="textAreaBottom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2"/>
            <p:cNvSpPr/>
            <p:nvPr/>
          </p:nvSpPr>
          <p:spPr>
            <a:xfrm>
              <a:off x="5306040" y="4724280"/>
              <a:ext cx="910440" cy="72612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3"/>
            <p:cNvSpPr/>
            <p:nvPr/>
          </p:nvSpPr>
          <p:spPr>
            <a:xfrm>
              <a:off x="6195600" y="5135040"/>
              <a:ext cx="174960" cy="3384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6326280" y="5122800"/>
              <a:ext cx="540000" cy="600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5486400" y="6295320"/>
              <a:ext cx="429120" cy="3056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5836320" y="5824440"/>
              <a:ext cx="402120" cy="4928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6525360" y="5641560"/>
              <a:ext cx="245880" cy="4532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7107840" y="5297400"/>
              <a:ext cx="209160" cy="3384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7062480" y="5566680"/>
              <a:ext cx="578160" cy="4899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6888960" y="5873760"/>
              <a:ext cx="243000" cy="4543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1"/>
            <p:cNvSpPr/>
            <p:nvPr/>
          </p:nvSpPr>
          <p:spPr>
            <a:xfrm>
              <a:off x="5229360" y="5323680"/>
              <a:ext cx="367920" cy="25632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4905000" y="5551560"/>
              <a:ext cx="586800" cy="11070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6164280" y="6030720"/>
              <a:ext cx="599760" cy="21960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4"/>
            <p:cNvSpPr/>
            <p:nvPr/>
          </p:nvSpPr>
          <p:spPr>
            <a:xfrm>
              <a:off x="5190840" y="5548680"/>
              <a:ext cx="116280" cy="3520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>
              <a:off x="5280120" y="5144400"/>
              <a:ext cx="264240" cy="3002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6"/>
            <p:cNvSpPr/>
            <p:nvPr/>
          </p:nvSpPr>
          <p:spPr>
            <a:xfrm>
              <a:off x="6523920" y="5613120"/>
              <a:ext cx="275400" cy="15696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7"/>
            <p:cNvSpPr/>
            <p:nvPr/>
          </p:nvSpPr>
          <p:spPr>
            <a:xfrm>
              <a:off x="5929920" y="5925240"/>
              <a:ext cx="259920" cy="344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8"/>
            <p:cNvSpPr/>
            <p:nvPr/>
          </p:nvSpPr>
          <p:spPr>
            <a:xfrm>
              <a:off x="5208120" y="6311880"/>
              <a:ext cx="278280" cy="3096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9"/>
            <p:cNvSpPr/>
            <p:nvPr/>
          </p:nvSpPr>
          <p:spPr>
            <a:xfrm>
              <a:off x="4876920" y="5976000"/>
              <a:ext cx="234360" cy="4068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0"/>
            <p:cNvSpPr/>
            <p:nvPr/>
          </p:nvSpPr>
          <p:spPr>
            <a:xfrm>
              <a:off x="6903360" y="6306480"/>
              <a:ext cx="444960" cy="20448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>
              <a:off x="7048440" y="6496200"/>
              <a:ext cx="717480" cy="54180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>
              <a:off x="6893280" y="6332400"/>
              <a:ext cx="408960" cy="23328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153200" y="5627880"/>
              <a:ext cx="452160" cy="126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34"/>
            <p:cNvSpPr/>
            <p:nvPr/>
          </p:nvSpPr>
          <p:spPr>
            <a:xfrm>
              <a:off x="7339680" y="5229000"/>
              <a:ext cx="564120" cy="2185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35"/>
            <p:cNvSpPr/>
            <p:nvPr/>
          </p:nvSpPr>
          <p:spPr>
            <a:xfrm>
              <a:off x="7895160" y="4998240"/>
              <a:ext cx="606600" cy="58680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36"/>
            <p:cNvSpPr/>
            <p:nvPr/>
          </p:nvSpPr>
          <p:spPr>
            <a:xfrm>
              <a:off x="8245080" y="5560920"/>
              <a:ext cx="538200" cy="21420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37"/>
            <p:cNvSpPr/>
            <p:nvPr/>
          </p:nvSpPr>
          <p:spPr>
            <a:xfrm>
              <a:off x="7672320" y="6677640"/>
              <a:ext cx="562680" cy="21672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38"/>
            <p:cNvSpPr/>
            <p:nvPr/>
          </p:nvSpPr>
          <p:spPr>
            <a:xfrm>
              <a:off x="8185320" y="6341760"/>
              <a:ext cx="104760" cy="570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39"/>
            <p:cNvSpPr/>
            <p:nvPr/>
          </p:nvSpPr>
          <p:spPr>
            <a:xfrm>
              <a:off x="8270280" y="5190840"/>
              <a:ext cx="258480" cy="3794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>
              <a:off x="7133760" y="6688440"/>
              <a:ext cx="616680" cy="37548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>
              <a:off x="8164080" y="6325560"/>
              <a:ext cx="153360" cy="554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42"/>
            <p:cNvSpPr/>
            <p:nvPr/>
          </p:nvSpPr>
          <p:spPr>
            <a:xfrm>
              <a:off x="7989120" y="5981400"/>
              <a:ext cx="466200" cy="35208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43"/>
            <p:cNvSpPr/>
            <p:nvPr/>
          </p:nvSpPr>
          <p:spPr>
            <a:xfrm>
              <a:off x="8371440" y="5748120"/>
              <a:ext cx="392040" cy="49284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44"/>
            <p:cNvSpPr/>
            <p:nvPr/>
          </p:nvSpPr>
          <p:spPr>
            <a:xfrm>
              <a:off x="8372880" y="5790240"/>
              <a:ext cx="328320" cy="3931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st Comm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ntence is AWKWARD (does not make sense; missing words; fragments; run-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PUNC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USE OF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rrecting Frag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jects or verbs can be add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agments can be joined 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following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ith his disposable lighter in his hand, he told everyone to get out of the way.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lling out his disposable lighter, Fred told everyone to get out of the way before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pulled out his disposable lighter.  Fred told everyone to get out of the way and then he lit the f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Run-on Senten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57200" y="1676520"/>
            <a:ext cx="84582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A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run-o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entence is a sentence that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 contains two improperly joined sentences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(independent clauses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types of run-on sentenc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sed Sentenc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33520" y="403848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sed Sentences 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used Sentence occurs when two sentences are joined without any punctu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272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ma Splice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mma splice occurs when two sentences are joined with only a com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eacher told the students to complete the section on comma splices, she also told them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in't got no V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in’t got no Red American Ex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’t go nowhere ex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n’t matter ‘cause I’m the one that loves you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me gir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aland -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The Way I Are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Ways to Correct Run-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219320" y="2057400"/>
            <a:ext cx="601956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4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 ON R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randa was the lead vocalist in her band it was a punk rock b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Use a Semicol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520" y="21337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62120" y="23623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76212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447920" y="43434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426600"/>
            <a:ext cx="899028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se a comma and a coordinating conjunction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(and, but, yet, for, or, nor, so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 ON RIGHT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2666880" y="41911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3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ester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a subordinating conjunction or dependent word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ON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838080" y="228600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9144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common subordinating conj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676520" y="34290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Book Pages 25-26; 71-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-th-that that don't kill 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only make me str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you to hurry up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 I can't wait much l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know I got to be right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 I can't get much wrong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 I been waitin' all night 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's how long I've been on 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nye West -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Stronger Ly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Watch Me Crank Dat Roboc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 Fresh, Now Watch Me J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cking On Them Haterz May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Do Dat Soulja B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ean To The Left And Crank Dat Th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lja Boy -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Crank Dat Soulja Boy Ly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ed a credit card that's got no lim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big black jet with a bedroom in 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nna join the mile high club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rty-seven thousand fee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(Been there done that)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ckelback Rockstar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't wanna see another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y you can kill the p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just let me expl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me I know what I'm sayin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end up on the track of an oncoming tr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ck in the passenger se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'a do the fast 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l' Wayne Apologize (remix)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ing: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Timbaland Ly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wty Fly, Shawty Tig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oulda Stayed There All Nig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You (You) With You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Missed Ya, Picked Y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 Its Time 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Back Up With You(You)Girl With You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h Yeah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Used To Kick Up At The Pa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 She's All Grown Up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ckin Them Stiletto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mpin up Out That Mercedes Tru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eams Shawty Is A Ten Ly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WKWARDNES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look at some examp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atible, it don't matter th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cos someone's bound to hear my cr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out if you d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're not easy to f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asha Bedingfield Soulmate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Nvasquez</cp:lastModifiedBy>
  <dcterms:modified xsi:type="dcterms:W3CDTF">2011-05-16T19:23:09Z</dcterms:modified>
  <cp:revision>67</cp:revision>
  <dc:subject/>
  <dc:title>Fun with Fragments</dc:title>
</cp:coreProperties>
</file>